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C608-0DE3-438D-9551-7FB426519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E912-E006-43AE-8E39-254AB40BBB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ites.google.com/site/bsc161/Hom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#1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A3E2-374F-4638-AAF5-6E16844CBB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E97-311D-41E0-BB72-C4FBA7EF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961-EB41-4378-9B9B-CEC8087D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C1F-D566-44DF-89A2-EAD429AE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537-BADD-4E53-8A46-72C9EB0A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59D2-AFB4-4088-9ADC-CEED3F08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2F19-AFAF-47F3-92EC-FDE03674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56FF-272A-4F65-8E6F-14394ECD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CEFE-DFA1-4E9A-AC20-08655D23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08C7-4DF2-420F-9752-55E84F06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772B-D8DE-4AE8-9D36-00A42A1F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456B-082D-4E2F-AE93-38BE3FE1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F7C-DC80-423B-895C-BAF5565A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61D6-B997-42D5-949F-38DDE730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A546-5D8D-4D6F-9EA2-99260FBB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9580-35A4-4624-80D0-7D260BBE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4231-75C6-4E90-9166-DEE73D92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7FB5-A98A-43E0-8839-7F9CEF2C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15F-8F07-42CF-BA4A-60ABB82F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54A-FC3F-4AF3-B706-FE757F2E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736-C2CC-4629-B119-1B337E54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7EEC-E8DF-41E4-8B77-07768E03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5E2-E7AD-4BDC-A1F8-B88537EA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9C8-7B19-4663-BC8A-5E51974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910-2986-425B-AFC5-3A8E7F9A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1954440" indent="-217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1954440" indent="-217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5ACB-2F65-4BB5-9A5D-A5DB0501E8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C9DC-8FC5-40AB-8C06-923D25E2D9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abmethods231.wikispaces.com/" TargetMode="External"/><Relationship Id="rId2" Type="http://schemas.openxmlformats.org/officeDocument/2006/relationships/hyperlink" Target="https://blackboard.ilstu.edu/webct/logon/906040953021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BSC 231 Lab Methods in Teaching Science</a:t>
            </a:r>
            <a:r>
              <a:rPr b="0" lang="en-US" sz="8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1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r. Cynthia Moo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914400" y="44956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ourse that dares to address the question: How do I become an effective hands-on inquiry science teach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Mixing Color and Water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18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orming hypothese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18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aking observation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18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erpreting observation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18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esting hypothese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Procedure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vide into groups of four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e person/group gets an activity tray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e person/group fills the beaker with water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Next week: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at is student-centered inquiry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cussion of baking powder lab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spcAft>
                <a:spcPts val="27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tivities – demo, hands-on, and inquir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ahoma"/>
              </a:rPr>
              <a:t>Ask </a:t>
            </a:r>
            <a:br>
              <a:rPr sz="8800"/>
            </a:br>
            <a:r>
              <a:rPr b="1" lang="en-US" sz="8800" spc="-1" strike="noStrike">
                <a:solidFill>
                  <a:srgbClr val="ffffcc"/>
                </a:solidFill>
                <a:latin typeface="Tahoma"/>
              </a:rPr>
              <a:t>questions !!</a:t>
            </a:r>
            <a:br>
              <a:rPr sz="8800"/>
            </a:br>
            <a:endParaRPr b="1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-1235160" y="422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There are no ‘right’ answers!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73392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There are ‘better’ answers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Themes</a:t>
            </a:r>
            <a:endParaRPr b="1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314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cientific inquiry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314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rimental science.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314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dapting hands-on activitie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314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assroom/lab safety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You will wear two different thinking caps in this class.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240" y="2819520"/>
            <a:ext cx="5257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30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ach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spcAft>
                <a:spcPts val="30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ud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Grades will be determined as follows: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ass participation         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%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fety exam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%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omplete activity write-up    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20%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vity Presentation     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10%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Kit development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10%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Experimental research project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30%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Three Online Locations 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3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Main course website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33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Black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3376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Google doc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ssignments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rganization for cours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00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ad syllabus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00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cess the three online course sites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00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uy your 4x6 cards and bring several to class each week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alyze baking powder lab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oose partner for activity development and presentatio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ahoma"/>
              </a:rPr>
              <a:t>Who am I like?</a:t>
            </a:r>
            <a:endParaRPr b="1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7:50:57Z</dcterms:created>
  <dc:creator>Cynthia J. Moore</dc:creator>
  <dc:description/>
  <dc:language>en-US</dc:language>
  <cp:lastModifiedBy>Cynthia Moore</cp:lastModifiedBy>
  <dcterms:modified xsi:type="dcterms:W3CDTF">2011-01-19T03:12:15Z</dcterms:modified>
  <cp:revision>30</cp:revision>
  <dc:subject/>
  <dc:title>BSC 231 Lab Methods in Teaching Science </dc:title>
</cp:coreProperties>
</file>